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BC6-AE7C-4D6F-8D38-B7850976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F41-035B-4690-8A77-D429AAA3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A23-4D7C-4D17-9AEA-BCFE59AD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0BE-221E-4A27-812C-C084EE30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F28C-ED88-44C2-B253-C40ADF01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7F79-B684-450F-A6DF-E65CC689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1605-ED56-4BC9-8652-F96F1D90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1DA7-E402-4909-962B-9BF0EE41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0FA5-6023-4FC6-8B29-249D3760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4279-F389-4980-B728-204920CB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D6CC-3215-4DC4-AA1F-E9A9E0D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D15-2BE8-4379-8A97-CD42839E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EBDE-EDFD-4D70-B422-167890E1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A06C-01F8-42B2-9517-C806131E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E1F8-6E96-4A29-AC95-2D99E02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92CB-80EF-41E5-B0C6-ACD0F34E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35EB-1061-4471-AC31-09058F88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4C2-51E2-4807-A642-59910563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B2A-0F17-4306-8E6A-4A9675B5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45E-7D00-48CF-B445-06602FD7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280-AC33-435D-85E1-CAF16BDD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DF5-593A-41BC-B522-B8640FC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EF4-1917-4201-9AC0-FEC49302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BDA-E0DD-4EF7-A9CD-6DD8D67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D11F-E837-406D-B12D-1E1D584DC1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EA7E-361E-425E-9465-462A2DD9E0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5007"/>
                </a:solidFill>
                <a:latin typeface="Tahoma"/>
              </a:rPr>
              <a:t>New IEP Meeting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to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to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nderstanding Eligibility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E Eligibility Determination (ED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-3240" y="1840320"/>
            <a:ext cx="9165600" cy="4256640"/>
            <a:chOff x="-3240" y="1840320"/>
            <a:chExt cx="9165600" cy="4256640"/>
          </a:xfrm>
        </p:grpSpPr>
        <p:cxnSp>
          <p:nvCxnSpPr>
            <p:cNvPr id="137" name="_s29725"/>
            <p:cNvCxnSpPr>
              <a:stCxn id="138" idx="1"/>
              <a:endCxn id="139" idx="2"/>
            </p:cNvCxnSpPr>
            <p:nvPr/>
          </p:nvCxnSpPr>
          <p:spPr>
            <a:xfrm rot="10800000">
              <a:off x="3712320" y="5503320"/>
              <a:ext cx="475920" cy="3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9723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6253920" y="3664440"/>
              <a:ext cx="193680" cy="175752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9719"/>
            <p:cNvCxnSpPr>
              <a:stCxn id="139" idx="0"/>
              <a:endCxn id="142" idx="2"/>
            </p:cNvCxnSpPr>
            <p:nvPr/>
          </p:nvCxnSpPr>
          <p:spPr>
            <a:xfrm flipH="1" flipV="1" rot="5400000">
              <a:off x="4495680" y="3663360"/>
              <a:ext cx="193680" cy="176004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29717"/>
            <p:cNvCxnSpPr>
              <a:stCxn id="142" idx="0"/>
              <a:endCxn id="145" idx="2"/>
            </p:cNvCxnSpPr>
            <p:nvPr/>
          </p:nvCxnSpPr>
          <p:spPr>
            <a:xfrm flipV="1" rot="16200000">
              <a:off x="4825080" y="3189960"/>
              <a:ext cx="193680" cy="110124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29715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2920320" y="2386080"/>
              <a:ext cx="193680" cy="270900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29708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6056280" y="747360"/>
              <a:ext cx="193680" cy="314424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29707"/>
            <p:cNvCxnSpPr>
              <a:stCxn id="145" idx="0"/>
              <a:endCxn id="150" idx="2"/>
            </p:cNvCxnSpPr>
            <p:nvPr/>
          </p:nvCxnSpPr>
          <p:spPr>
            <a:xfrm flipH="1" flipV="1" rot="5400000">
              <a:off x="4379760" y="2214720"/>
              <a:ext cx="193680" cy="21024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0" name="_s29703"/>
            <p:cNvSpPr/>
            <p:nvPr/>
          </p:nvSpPr>
          <p:spPr>
            <a:xfrm>
              <a:off x="2592000" y="1840320"/>
              <a:ext cx="3975120" cy="3826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240" rIns="2124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Does the student have a disability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9704"/>
            <p:cNvSpPr/>
            <p:nvPr/>
          </p:nvSpPr>
          <p:spPr>
            <a:xfrm>
              <a:off x="2934360" y="2416320"/>
              <a:ext cx="2874240" cy="1227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240" rIns="2124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s the student mak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ffective progres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(2.5 or better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9705"/>
            <p:cNvSpPr/>
            <p:nvPr/>
          </p:nvSpPr>
          <p:spPr>
            <a:xfrm>
              <a:off x="6288120" y="2416320"/>
              <a:ext cx="2874240" cy="1227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240" rIns="2124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udent is not eligib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Special Educa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ut may be eligib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or other services (504 or DCAP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9714"/>
            <p:cNvSpPr/>
            <p:nvPr/>
          </p:nvSpPr>
          <p:spPr>
            <a:xfrm>
              <a:off x="-3240" y="3837240"/>
              <a:ext cx="3330000" cy="609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udent not elig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9716"/>
            <p:cNvSpPr/>
            <p:nvPr/>
          </p:nvSpPr>
          <p:spPr>
            <a:xfrm>
              <a:off x="3805920" y="3837240"/>
              <a:ext cx="333000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s lack of progress due to disability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9718"/>
            <p:cNvSpPr/>
            <p:nvPr/>
          </p:nvSpPr>
          <p:spPr>
            <a:xfrm>
              <a:off x="2192040" y="4640400"/>
              <a:ext cx="3038040" cy="863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es student requi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ially designed instruction 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lated service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9722"/>
            <p:cNvSpPr/>
            <p:nvPr/>
          </p:nvSpPr>
          <p:spPr>
            <a:xfrm>
              <a:off x="5709240" y="4640400"/>
              <a:ext cx="3037320" cy="863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udent not eligibl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9724"/>
            <p:cNvSpPr/>
            <p:nvPr/>
          </p:nvSpPr>
          <p:spPr>
            <a:xfrm>
              <a:off x="4188240" y="5697000"/>
              <a:ext cx="2874240" cy="399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Student is eligibl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change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logical order of presentation of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amline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eligibility de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IEP Meet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742840"/>
            <a:ext cx="77724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IEP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-year re-evaluation IEP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Evaluation to determine elig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order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ual IEP Review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s &amp; Sign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of current IEP disability and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sts/service providers review progress on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iculum Teachers review progress toward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 questions/feedback/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eligibility de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ligible, develop updated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order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-year Re-eval. IEP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s &amp; Sign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of current IEP disability and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updated testing results &amp; informal 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sts/service providers review progress on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iculum Teachers review progress toward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 questions/feedback/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eligibility de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ligible, develop updated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sentation order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itial Evaluation/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igibility Determination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s &amp; Sign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reason for referral/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testing results &amp; informal 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sts/service providers review progress on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iculum Teachers review progress toward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 questions/feedback/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eligibility de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ligible, develop updated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eamlining the proces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urriculum teachers n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implify information to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pecial Ed. teacher/Team Chair will review with team teachers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38102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r Annual/Re-ev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4760" y="2285640"/>
            <a:ext cx="3809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r Initial Ev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reason for refer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pected di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Annual Reviews and 3-year Re-evals., team teachers answer the following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920" y="2348640"/>
            <a:ext cx="8670960" cy="4205880"/>
            <a:chOff x="304920" y="2348640"/>
            <a:chExt cx="8670960" cy="4205880"/>
          </a:xfrm>
        </p:grpSpPr>
        <p:cxnSp>
          <p:nvCxnSpPr>
            <p:cNvPr id="118" name="_s27681"/>
            <p:cNvCxnSpPr>
              <a:stCxn id="119" idx="1"/>
              <a:endCxn id="120" idx="2"/>
            </p:cNvCxnSpPr>
            <p:nvPr/>
          </p:nvCxnSpPr>
          <p:spPr>
            <a:xfrm rot="10800000">
              <a:off x="3745800" y="6038280"/>
              <a:ext cx="217440" cy="32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7679"/>
            <p:cNvCxnSpPr>
              <a:stCxn id="122" idx="1"/>
              <a:endCxn id="123" idx="2"/>
            </p:cNvCxnSpPr>
            <p:nvPr/>
          </p:nvCxnSpPr>
          <p:spPr>
            <a:xfrm rot="10800000">
              <a:off x="3745800" y="5073120"/>
              <a:ext cx="217440" cy="33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71"/>
            <p:cNvCxnSpPr>
              <a:stCxn id="120" idx="1"/>
              <a:endCxn id="125" idx="2"/>
            </p:cNvCxnSpPr>
            <p:nvPr/>
          </p:nvCxnSpPr>
          <p:spPr>
            <a:xfrm rot="10800000">
              <a:off x="2872800" y="4592160"/>
              <a:ext cx="217800" cy="127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7669"/>
            <p:cNvCxnSpPr>
              <a:stCxn id="123" idx="1"/>
              <a:endCxn id="125" idx="2"/>
            </p:cNvCxnSpPr>
            <p:nvPr/>
          </p:nvCxnSpPr>
          <p:spPr>
            <a:xfrm rot="10800000">
              <a:off x="2872800" y="4592160"/>
              <a:ext cx="217800" cy="31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67"/>
            <p:cNvCxnSpPr>
              <a:stCxn id="128" idx="0"/>
              <a:endCxn id="129" idx="2"/>
            </p:cNvCxnSpPr>
            <p:nvPr/>
          </p:nvCxnSpPr>
          <p:spPr>
            <a:xfrm flipH="1" flipV="1" rot="5400000">
              <a:off x="6337800" y="3639960"/>
              <a:ext cx="141840" cy="2160"/>
            </a:xfrm>
            <a:prstGeom prst="bentConnector3">
              <a:avLst>
                <a:gd name="adj1" fmla="val 49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7665"/>
            <p:cNvCxnSpPr>
              <a:stCxn id="125" idx="0"/>
              <a:endCxn id="131" idx="2"/>
            </p:cNvCxnSpPr>
            <p:nvPr/>
          </p:nvCxnSpPr>
          <p:spPr>
            <a:xfrm flipH="1" flipV="1" rot="5400000">
              <a:off x="3592440" y="2850840"/>
              <a:ext cx="141840" cy="1580400"/>
            </a:xfrm>
            <a:prstGeom prst="bentConnector3">
              <a:avLst>
                <a:gd name="adj1" fmla="val 49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7660"/>
            <p:cNvCxnSpPr>
              <a:stCxn id="129" idx="0"/>
              <a:endCxn id="133" idx="2"/>
            </p:cNvCxnSpPr>
            <p:nvPr/>
          </p:nvCxnSpPr>
          <p:spPr>
            <a:xfrm flipV="1" rot="16200000">
              <a:off x="5453640" y="2259000"/>
              <a:ext cx="141840" cy="1770120"/>
            </a:xfrm>
            <a:prstGeom prst="bentConnector3">
              <a:avLst>
                <a:gd name="adj1" fmla="val 49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7659"/>
            <p:cNvCxnSpPr>
              <a:stCxn id="131" idx="0"/>
              <a:endCxn id="133" idx="2"/>
            </p:cNvCxnSpPr>
            <p:nvPr/>
          </p:nvCxnSpPr>
          <p:spPr>
            <a:xfrm flipH="1" flipV="1" rot="5400000">
              <a:off x="4475880" y="3050640"/>
              <a:ext cx="141840" cy="187200"/>
            </a:xfrm>
            <a:prstGeom prst="bentConnector3">
              <a:avLst>
                <a:gd name="adj1" fmla="val 49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27655"/>
            <p:cNvSpPr/>
            <p:nvPr/>
          </p:nvSpPr>
          <p:spPr>
            <a:xfrm>
              <a:off x="304920" y="2348640"/>
              <a:ext cx="8670960" cy="72396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s the student currently meeting (3.0+) or close to meeting (2.5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iculum standards for your subject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7656"/>
            <p:cNvSpPr/>
            <p:nvPr/>
          </p:nvSpPr>
          <p:spPr>
            <a:xfrm>
              <a:off x="3798000" y="3214800"/>
              <a:ext cx="1309320" cy="3546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7657"/>
            <p:cNvSpPr/>
            <p:nvPr/>
          </p:nvSpPr>
          <p:spPr>
            <a:xfrm>
              <a:off x="5753880" y="3214800"/>
              <a:ext cx="1309320" cy="3546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4"/>
            <p:cNvSpPr/>
            <p:nvPr/>
          </p:nvSpPr>
          <p:spPr>
            <a:xfrm>
              <a:off x="1213560" y="3711600"/>
              <a:ext cx="3317040" cy="879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s their success a result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ifications of to the curriculum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7666"/>
            <p:cNvSpPr/>
            <p:nvPr/>
          </p:nvSpPr>
          <p:spPr>
            <a:xfrm>
              <a:off x="4749480" y="3711600"/>
              <a:ext cx="3317040" cy="879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line specific areas of concer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tilizing the Teac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ssessment Ru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68"/>
            <p:cNvSpPr/>
            <p:nvPr/>
          </p:nvSpPr>
          <p:spPr>
            <a:xfrm>
              <a:off x="3090960" y="4734000"/>
              <a:ext cx="1309320" cy="3394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7670"/>
            <p:cNvSpPr/>
            <p:nvPr/>
          </p:nvSpPr>
          <p:spPr>
            <a:xfrm>
              <a:off x="3090960" y="5698440"/>
              <a:ext cx="1309320" cy="3394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78"/>
            <p:cNvSpPr/>
            <p:nvPr/>
          </p:nvSpPr>
          <p:spPr>
            <a:xfrm>
              <a:off x="3963240" y="5216040"/>
              <a:ext cx="3727080" cy="374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EP team determines continued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7680"/>
            <p:cNvSpPr/>
            <p:nvPr/>
          </p:nvSpPr>
          <p:spPr>
            <a:xfrm>
              <a:off x="3963240" y="6180480"/>
              <a:ext cx="3727080" cy="374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You are done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6:48:19Z</dcterms:created>
  <dc:creator>Mindy Sefton</dc:creator>
  <dc:description/>
  <dc:language>en-US</dc:language>
  <cp:lastModifiedBy>Mindy Sefton</cp:lastModifiedBy>
  <dcterms:modified xsi:type="dcterms:W3CDTF">2010-11-04T14:22:23Z</dcterms:modified>
  <cp:revision>9</cp:revision>
  <dc:subject/>
  <dc:title>New IEP Meeting Forma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48161796</vt:r8>
  </property>
  <property fmtid="{D5CDD505-2E9C-101B-9397-08002B2CF9AE}" pid="3" name="_AuthorEmail">
    <vt:lpwstr>MSefton@shrewsbury.k12.ma.us</vt:lpwstr>
  </property>
  <property fmtid="{D5CDD505-2E9C-101B-9397-08002B2CF9AE}" pid="4" name="_AuthorEmailDisplayName">
    <vt:lpwstr>Mindy Sefton</vt:lpwstr>
  </property>
  <property fmtid="{D5CDD505-2E9C-101B-9397-08002B2CF9AE}" pid="5" name="_EmailSubject">
    <vt:lpwstr>PPT</vt:lpwstr>
  </property>
</Properties>
</file>